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98C1-E2C7-41E8-8A9D-7EEF18EF7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ussia today 4 in ever for people died ,and there I only one bir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3AA-1AF1-4071-A1C1-CA77602D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AEE-88D1-48B8-AE98-80431EB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02C-A125-41BA-8E17-7476F621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3B9-9C8C-498D-A8F8-57B425EA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72F-C42C-4F7E-8829-9ADCA6E3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A53-5069-4643-B8E3-48A885C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433-FA95-4974-A1E0-DA981F64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24F-8C4B-4638-992A-7AC83E4F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3E7-673A-400C-8179-52FBE377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501-F22D-4B36-A441-094BFA9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D2B-D5A2-458B-A43B-66F5882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A81-DDBA-4677-BD19-312CB6A1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1F08-3BED-479F-A4FC-8DAFD0EF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6294240" cy="7543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4267080" cy="242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2590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90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32767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2507760" y="3130560"/>
            <a:ext cx="1117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5320" y="297180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200,00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death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7920" y="259092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50,000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birth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3:47:42Z</dcterms:created>
  <dc:creator>nw sd</dc:creator>
  <dc:description/>
  <dc:language>en-US</dc:language>
  <cp:lastModifiedBy>PA Department of Education</cp:lastModifiedBy>
  <dcterms:modified xsi:type="dcterms:W3CDTF">2009-02-04T18:11:09Z</dcterms:modified>
  <cp:revision>7</cp:revision>
  <dc:subject/>
  <dc:title>PowerPoint Presentation</dc:title>
</cp:coreProperties>
</file>